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4397-8ED0-42BA-97D7-911BA039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37AD-1455-4B0C-89CE-089489FDB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E3B8-3B39-415A-AE2B-71ACD942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A9E5-5773-46A6-BFCE-3A65FB32A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2286-92E7-4E2D-AE52-9FC61BDCE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12B8-DDA2-4B95-9FD1-D91ED3EBE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4098-6B94-4719-B70F-A8FEDE9E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435C1-3DD5-45EE-BBC7-AD0E138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6509-7BB9-480E-9F79-ECECD391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B8DE-6613-474A-BCA4-68482B24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8F1C-B5CF-4476-813A-EF49649F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093-74C6-44B9-8EC3-097FA149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CF1B-6390-4DEB-B853-8DAB3697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C734-0F31-4DD4-B126-8D557088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8563-80ED-4844-855D-9A65F4A8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E56A-0028-4E97-B9A5-0B8DA533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36E4-D819-465D-BD6F-02212F4D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27A5-3A8D-469F-9809-5C2D42562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07E7-BFDD-4A0E-95AC-1CE92DA1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FEC-2C55-44B8-B080-94DB212E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DCC7-33B8-4BB7-BF2B-E3F7514F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CD73-2096-4032-8DC8-1AD85907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3F5-F9D5-491F-89D4-F22322A10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632-DA14-42EF-A2A0-D6A33E40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7CD6-9BE0-4D47-9130-62B4CC9069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28C5-95CF-41E0-93EF-27C4089F52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708660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7" descr="memo grb copy"/>
          <p:cNvPicPr/>
          <p:nvPr/>
        </p:nvPicPr>
        <p:blipFill>
          <a:blip r:embed="rId4"/>
          <a:stretch/>
        </p:blipFill>
        <p:spPr>
          <a:xfrm>
            <a:off x="762120" y="228600"/>
            <a:ext cx="7696080" cy="14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хигијен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мотивишу, али уколико нису испуњени могу да изазову незадовољ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актори мотивациј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гу да демотивишу, али уколико су испуњени могу да мотив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остављања циљев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пореде своје тренутне способности да нешто ураде са способностима потребним за успешно остварење циљ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Циљеви као мотивато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ба да буд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Јасно одређ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пулзивни, али достиж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а за мерење достигнућ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а идеја теорије је да људи налазе мотивацију у поређењу са другим људима са којима ра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која се упоређу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 са којом се упоређује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пств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 особе са којом се поредим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правичност / једнакости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о резултат поређења могућа су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три ис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Једнак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ре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7360" indent="-330120">
              <a:spcBef>
                <a:spcPts val="60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једнакост због потплаће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 случају неједнак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собе реагују на следеће начин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сво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сопствених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ерцепциј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е друге 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особу са којом се поре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мене посао или организац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очекивањ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186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9000"/>
          </a:bodyPr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сновни елементи теор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Очеки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уложени труд ће донети резулта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струментал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ад ће бити награђ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-13356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лентно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награда се перципира као вред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3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чекивање   Инструменталност   Валент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3"/>
          <p:cNvSpPr/>
          <p:nvPr/>
        </p:nvSpPr>
        <p:spPr>
          <a:xfrm>
            <a:off x="22860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Уложени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4952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Награ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5"/>
          <p:cNvSpPr/>
          <p:nvPr/>
        </p:nvSpPr>
        <p:spPr>
          <a:xfrm>
            <a:off x="2590920" y="4114800"/>
            <a:ext cx="175248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Резулт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6"/>
          <p:cNvSpPr/>
          <p:nvPr/>
        </p:nvSpPr>
        <p:spPr>
          <a:xfrm>
            <a:off x="7238880" y="41148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ични циље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ight Arrow 7"/>
          <p:cNvSpPr/>
          <p:nvPr/>
        </p:nvSpPr>
        <p:spPr>
          <a:xfrm>
            <a:off x="205740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Arrow 8"/>
          <p:cNvSpPr/>
          <p:nvPr/>
        </p:nvSpPr>
        <p:spPr>
          <a:xfrm>
            <a:off x="678168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e085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ight Arrow 9"/>
          <p:cNvSpPr/>
          <p:nvPr/>
        </p:nvSpPr>
        <p:spPr>
          <a:xfrm>
            <a:off x="4419720" y="4419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d147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Straight Arrow Connector 11"/>
          <p:cNvCxnSpPr/>
          <p:nvPr/>
        </p:nvCxnSpPr>
        <p:spPr>
          <a:xfrm flipH="1">
            <a:off x="152316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6" name="Straight Arrow Connector 13"/>
          <p:cNvCxnSpPr/>
          <p:nvPr/>
        </p:nvCxnSpPr>
        <p:spPr>
          <a:xfrm flipH="1">
            <a:off x="6171480" y="502884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97" name="Straight Arrow Connector 14"/>
          <p:cNvCxnSpPr/>
          <p:nvPr/>
        </p:nvCxnSpPr>
        <p:spPr>
          <a:xfrm flipH="1">
            <a:off x="3733200" y="5105160"/>
            <a:ext cx="686520" cy="686520"/>
          </a:xfrm>
          <a:prstGeom prst="straightConnector1">
            <a:avLst/>
          </a:prstGeom>
          <a:ln w="19080">
            <a:solidFill>
              <a:srgbClr val="cc98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ипови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228600" y="1676520"/>
          <a:ext cx="8686800" cy="4952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52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материјални подстица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ректн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ирект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а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о окруже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цијални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а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аџм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нора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зионо осиг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рад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т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потвр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ту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резент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ивотно осигур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имљиви зада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зно радно вре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дрављ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дна прав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одмо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ела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2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о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пе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мо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мбени кре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та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дновање успех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Појам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а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изра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sr-RS" sz="3200" spc="-1" strike="noStrike">
                <a:solidFill>
                  <a:srgbClr val="ff0000"/>
                </a:solidFill>
                <a:latin typeface="Arial"/>
              </a:rPr>
              <a:t>мотивац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потич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латинск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oves, mov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знач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кр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1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ивација је потреба или жеља која служи да подстакне (појача) понашање и усмери га према циљ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#2 Деф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нутрашњи услов који наводи на акцију (менталну, бихевиоралну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е мотивације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Масловљева хијерархија потреб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Теориј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Теорија два факт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Теорија постављања циљ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Теорија праведности / једнак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Теорија очеки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Isosceles Triangle 4"/>
          <p:cNvSpPr/>
          <p:nvPr/>
        </p:nvSpPr>
        <p:spPr>
          <a:xfrm>
            <a:off x="1295280" y="1981080"/>
            <a:ext cx="4800600" cy="449604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3962520" y="28195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амопотврђи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962520" y="35053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оштов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3962520" y="41911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припадањ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3962520" y="48769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отребе за сигурношћ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3962520" y="5562720"/>
            <a:ext cx="2514600" cy="533160"/>
          </a:xfrm>
          <a:prstGeom prst="rect">
            <a:avLst/>
          </a:prstGeom>
          <a:solidFill>
            <a:srgbClr val="ffe697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Физиолошке потреб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28600" y="1752480"/>
          <a:ext cx="8686800" cy="4953240"/>
        </p:xfrm>
        <a:graphic>
          <a:graphicData uri="http://schemas.openxmlformats.org/drawingml/2006/table">
            <a:tbl>
              <a:tblPr/>
              <a:tblGrid>
                <a:gridCol w="2590920"/>
                <a:gridCol w="609588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олошке потреб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храном, водом, ваздухом, одећом, становањем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игурношћ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физичком и психичком сигурношћу, заштитом од спољног утицаја. Сталност посла, пензионо и здравствено осигур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рипад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а за припадањем нација, организацији, групи, религији. Пријатељство и љуба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поштовањем од стране некога и самопоштовањем. Репутација, статус, престиж, моћ, признањ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самоактуелизациј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требе за личним развојем и остваривањем пуног потенцијал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Масловљева хијерархија потреб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оји хијерархија од пет потреба или пет ниво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јединци се не могу помакнути на следећи виши ниво све док потребе на тренутном нижем нивоу нису задовоље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 се поједина потреба задовољи, следећа потреба постаје доминантна потр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ак преко нивоа потреба могућ је једино према наведеној хијерархиј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Два различита погле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запослен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желе да раде што то је мање могу могуће тако да менаџери морају да их контролиш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мало амбиција и не вол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е опиру промена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X </a:t>
            </a: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и 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Y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орија Y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врди 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ма није у природи да одбијају поса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могу бити креативни у решавању проблема постизању циљева организациј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су спремни да прихвате и траже одговор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ослени имају потенцијал за развој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Теорија два фактора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762120" y="1905120"/>
          <a:ext cx="761976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098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нижег степена – Хигијенске потреб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требе вишег нивоа – Фактори мотивац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гнућ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слови р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тике и процедуре у организациј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во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урност пос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говорнос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руководиоце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едовањ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нос са колег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04T08:02:26Z</dcterms:modified>
  <cp:revision>198</cp:revision>
  <dc:subject/>
  <dc:title>Soft and Hard Skills Development: A Current Situation in Serbian Companies</dc:title>
</cp:coreProperties>
</file>